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erica Supports Cub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944640" y="1808280"/>
            <a:ext cx="83120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uban rebellion, February 1895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fficial U.S. neutrality despite economic interest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ebels destroyed American property to bring American intervention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panish atrocities and “reconcentration camps” enraged American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eports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New York Wor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New York Journ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ueled U.S. fir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Grace</cp:lastModifiedBy>
  <dcterms:modified xsi:type="dcterms:W3CDTF">2015-10-25T02:59:00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